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80513" cy="11156950"/>
  <p:notesSz cx="9871075" cy="14122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E4C53-64E8-44D7-841C-ADEAEC037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9000" y="444960"/>
            <a:ext cx="8261640" cy="186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109520"/>
                <a:tab algn="l" pos="2219400"/>
                <a:tab algn="l" pos="3328920"/>
                <a:tab algn="l" pos="4438800"/>
                <a:tab algn="l" pos="5548320"/>
                <a:tab algn="l" pos="6657840"/>
                <a:tab algn="l" pos="7767720"/>
                <a:tab algn="l" pos="8877240"/>
                <a:tab algn="l" pos="99871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9000" y="2610360"/>
            <a:ext cx="8261640" cy="30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9520"/>
                <a:tab algn="l" pos="2219400"/>
                <a:tab algn="l" pos="3328920"/>
                <a:tab algn="l" pos="4438800"/>
                <a:tab algn="l" pos="5548320"/>
                <a:tab algn="l" pos="6657840"/>
                <a:tab algn="l" pos="7767720"/>
                <a:tab algn="l" pos="8877240"/>
                <a:tab algn="l" pos="998712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9000" y="5990400"/>
            <a:ext cx="8261640" cy="30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9520"/>
                <a:tab algn="l" pos="2219400"/>
                <a:tab algn="l" pos="3328920"/>
                <a:tab algn="l" pos="4438800"/>
                <a:tab algn="l" pos="5548320"/>
                <a:tab algn="l" pos="6657840"/>
                <a:tab algn="l" pos="7767720"/>
                <a:tab algn="l" pos="8877240"/>
                <a:tab algn="l" pos="998712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54EA8-A558-4B4E-9C52-58D37AE87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9000" y="444960"/>
            <a:ext cx="8261640" cy="186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109520"/>
                <a:tab algn="l" pos="2219400"/>
                <a:tab algn="l" pos="3328920"/>
                <a:tab algn="l" pos="4438800"/>
                <a:tab algn="l" pos="5548320"/>
                <a:tab algn="l" pos="6657840"/>
                <a:tab algn="l" pos="7767720"/>
                <a:tab algn="l" pos="8877240"/>
                <a:tab algn="l" pos="99871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9000" y="2610360"/>
            <a:ext cx="4031640" cy="30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9520"/>
                <a:tab algn="l" pos="2219400"/>
                <a:tab algn="l" pos="3328920"/>
                <a:tab algn="l" pos="4438800"/>
                <a:tab algn="l" pos="5548320"/>
                <a:tab algn="l" pos="6657840"/>
                <a:tab algn="l" pos="7767720"/>
                <a:tab algn="l" pos="8877240"/>
                <a:tab algn="l" pos="998712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92600" y="2610360"/>
            <a:ext cx="4031640" cy="30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9520"/>
                <a:tab algn="l" pos="2219400"/>
                <a:tab algn="l" pos="3328920"/>
                <a:tab algn="l" pos="4438800"/>
                <a:tab algn="l" pos="5548320"/>
                <a:tab algn="l" pos="6657840"/>
                <a:tab algn="l" pos="7767720"/>
                <a:tab algn="l" pos="8877240"/>
                <a:tab algn="l" pos="998712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9000" y="5990400"/>
            <a:ext cx="4031640" cy="30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9520"/>
                <a:tab algn="l" pos="2219400"/>
                <a:tab algn="l" pos="3328920"/>
                <a:tab algn="l" pos="4438800"/>
                <a:tab algn="l" pos="5548320"/>
                <a:tab algn="l" pos="6657840"/>
                <a:tab algn="l" pos="7767720"/>
                <a:tab algn="l" pos="8877240"/>
                <a:tab algn="l" pos="998712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92600" y="5990400"/>
            <a:ext cx="4031640" cy="30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9520"/>
                <a:tab algn="l" pos="2219400"/>
                <a:tab algn="l" pos="3328920"/>
                <a:tab algn="l" pos="4438800"/>
                <a:tab algn="l" pos="5548320"/>
                <a:tab algn="l" pos="6657840"/>
                <a:tab algn="l" pos="7767720"/>
                <a:tab algn="l" pos="8877240"/>
                <a:tab algn="l" pos="998712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923F6-358C-4B20-AFBC-5ED124D19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9000" y="444960"/>
            <a:ext cx="8261640" cy="186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109520"/>
                <a:tab algn="l" pos="2219400"/>
                <a:tab algn="l" pos="3328920"/>
                <a:tab algn="l" pos="4438800"/>
                <a:tab algn="l" pos="5548320"/>
                <a:tab algn="l" pos="6657840"/>
                <a:tab algn="l" pos="7767720"/>
                <a:tab algn="l" pos="8877240"/>
                <a:tab algn="l" pos="99871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9000" y="2610360"/>
            <a:ext cx="2660040" cy="30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9520"/>
                <a:tab algn="l" pos="2219400"/>
                <a:tab algn="l" pos="3328920"/>
                <a:tab algn="l" pos="4438800"/>
                <a:tab algn="l" pos="5548320"/>
                <a:tab algn="l" pos="6657840"/>
                <a:tab algn="l" pos="7767720"/>
                <a:tab algn="l" pos="8877240"/>
                <a:tab algn="l" pos="998712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52600" y="2610360"/>
            <a:ext cx="2660040" cy="30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9520"/>
                <a:tab algn="l" pos="2219400"/>
                <a:tab algn="l" pos="3328920"/>
                <a:tab algn="l" pos="4438800"/>
                <a:tab algn="l" pos="5548320"/>
                <a:tab algn="l" pos="6657840"/>
                <a:tab algn="l" pos="7767720"/>
                <a:tab algn="l" pos="8877240"/>
                <a:tab algn="l" pos="998712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45840" y="2610360"/>
            <a:ext cx="2660040" cy="30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9520"/>
                <a:tab algn="l" pos="2219400"/>
                <a:tab algn="l" pos="3328920"/>
                <a:tab algn="l" pos="4438800"/>
                <a:tab algn="l" pos="5548320"/>
                <a:tab algn="l" pos="6657840"/>
                <a:tab algn="l" pos="7767720"/>
                <a:tab algn="l" pos="8877240"/>
                <a:tab algn="l" pos="998712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9000" y="5990400"/>
            <a:ext cx="2660040" cy="30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9520"/>
                <a:tab algn="l" pos="2219400"/>
                <a:tab algn="l" pos="3328920"/>
                <a:tab algn="l" pos="4438800"/>
                <a:tab algn="l" pos="5548320"/>
                <a:tab algn="l" pos="6657840"/>
                <a:tab algn="l" pos="7767720"/>
                <a:tab algn="l" pos="8877240"/>
                <a:tab algn="l" pos="998712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52600" y="5990400"/>
            <a:ext cx="2660040" cy="30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9520"/>
                <a:tab algn="l" pos="2219400"/>
                <a:tab algn="l" pos="3328920"/>
                <a:tab algn="l" pos="4438800"/>
                <a:tab algn="l" pos="5548320"/>
                <a:tab algn="l" pos="6657840"/>
                <a:tab algn="l" pos="7767720"/>
                <a:tab algn="l" pos="8877240"/>
                <a:tab algn="l" pos="998712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45840" y="5990400"/>
            <a:ext cx="2660040" cy="30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9520"/>
                <a:tab algn="l" pos="2219400"/>
                <a:tab algn="l" pos="3328920"/>
                <a:tab algn="l" pos="4438800"/>
                <a:tab algn="l" pos="5548320"/>
                <a:tab algn="l" pos="6657840"/>
                <a:tab algn="l" pos="7767720"/>
                <a:tab algn="l" pos="8877240"/>
                <a:tab algn="l" pos="998712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DA7FE-880E-4D22-9834-EFD95E01B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9000" y="444960"/>
            <a:ext cx="8261640" cy="186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109520"/>
                <a:tab algn="l" pos="2219400"/>
                <a:tab algn="l" pos="3328920"/>
                <a:tab algn="l" pos="4438800"/>
                <a:tab algn="l" pos="5548320"/>
                <a:tab algn="l" pos="6657840"/>
                <a:tab algn="l" pos="7767720"/>
                <a:tab algn="l" pos="8877240"/>
                <a:tab algn="l" pos="99871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9000" y="2610360"/>
            <a:ext cx="8261640" cy="64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75"/>
              </a:spcBef>
              <a:buNone/>
              <a:tabLst>
                <a:tab algn="l" pos="0"/>
                <a:tab algn="l" pos="1109520"/>
                <a:tab algn="l" pos="2219400"/>
                <a:tab algn="l" pos="3328920"/>
                <a:tab algn="l" pos="4438800"/>
                <a:tab algn="l" pos="5548320"/>
                <a:tab algn="l" pos="6657840"/>
                <a:tab algn="l" pos="7767720"/>
                <a:tab algn="l" pos="8877240"/>
                <a:tab algn="l" pos="998712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39B38-D748-4975-9E7B-08966334C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9000" y="444960"/>
            <a:ext cx="8261640" cy="186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109520"/>
                <a:tab algn="l" pos="2219400"/>
                <a:tab algn="l" pos="3328920"/>
                <a:tab algn="l" pos="4438800"/>
                <a:tab algn="l" pos="5548320"/>
                <a:tab algn="l" pos="6657840"/>
                <a:tab algn="l" pos="7767720"/>
                <a:tab algn="l" pos="8877240"/>
                <a:tab algn="l" pos="99871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9000" y="2610360"/>
            <a:ext cx="8261640" cy="64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9520"/>
                <a:tab algn="l" pos="2219400"/>
                <a:tab algn="l" pos="3328920"/>
                <a:tab algn="l" pos="4438800"/>
                <a:tab algn="l" pos="5548320"/>
                <a:tab algn="l" pos="6657840"/>
                <a:tab algn="l" pos="7767720"/>
                <a:tab algn="l" pos="8877240"/>
                <a:tab algn="l" pos="998712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48D02-7BBB-4DF3-A063-F001C30EB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9000" y="444960"/>
            <a:ext cx="8261640" cy="186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109520"/>
                <a:tab algn="l" pos="2219400"/>
                <a:tab algn="l" pos="3328920"/>
                <a:tab algn="l" pos="4438800"/>
                <a:tab algn="l" pos="5548320"/>
                <a:tab algn="l" pos="6657840"/>
                <a:tab algn="l" pos="7767720"/>
                <a:tab algn="l" pos="8877240"/>
                <a:tab algn="l" pos="99871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9000" y="2610360"/>
            <a:ext cx="4031640" cy="64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9520"/>
                <a:tab algn="l" pos="2219400"/>
                <a:tab algn="l" pos="3328920"/>
                <a:tab algn="l" pos="4438800"/>
                <a:tab algn="l" pos="5548320"/>
                <a:tab algn="l" pos="6657840"/>
                <a:tab algn="l" pos="7767720"/>
                <a:tab algn="l" pos="8877240"/>
                <a:tab algn="l" pos="998712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2600" y="2610360"/>
            <a:ext cx="4031640" cy="64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9520"/>
                <a:tab algn="l" pos="2219400"/>
                <a:tab algn="l" pos="3328920"/>
                <a:tab algn="l" pos="4438800"/>
                <a:tab algn="l" pos="5548320"/>
                <a:tab algn="l" pos="6657840"/>
                <a:tab algn="l" pos="7767720"/>
                <a:tab algn="l" pos="8877240"/>
                <a:tab algn="l" pos="998712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0E30B-0933-4477-A98C-0150E6BDE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9000" y="444960"/>
            <a:ext cx="8261640" cy="186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109520"/>
                <a:tab algn="l" pos="2219400"/>
                <a:tab algn="l" pos="3328920"/>
                <a:tab algn="l" pos="4438800"/>
                <a:tab algn="l" pos="5548320"/>
                <a:tab algn="l" pos="6657840"/>
                <a:tab algn="l" pos="7767720"/>
                <a:tab algn="l" pos="8877240"/>
                <a:tab algn="l" pos="99871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E788C-5B3C-45F9-9FEF-17E009F83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9000" y="444960"/>
            <a:ext cx="8261640" cy="86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75"/>
              </a:spcBef>
              <a:tabLst>
                <a:tab algn="l" pos="0"/>
                <a:tab algn="l" pos="1109520"/>
                <a:tab algn="l" pos="2219400"/>
                <a:tab algn="l" pos="3328920"/>
                <a:tab algn="l" pos="4438800"/>
                <a:tab algn="l" pos="5548320"/>
                <a:tab algn="l" pos="6657840"/>
                <a:tab algn="l" pos="7767720"/>
                <a:tab algn="l" pos="8877240"/>
                <a:tab algn="l" pos="998712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127B1-DDC7-4E3A-9BBA-9E721C92D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9000" y="444960"/>
            <a:ext cx="8261640" cy="186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109520"/>
                <a:tab algn="l" pos="2219400"/>
                <a:tab algn="l" pos="3328920"/>
                <a:tab algn="l" pos="4438800"/>
                <a:tab algn="l" pos="5548320"/>
                <a:tab algn="l" pos="6657840"/>
                <a:tab algn="l" pos="7767720"/>
                <a:tab algn="l" pos="8877240"/>
                <a:tab algn="l" pos="99871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9000" y="2610360"/>
            <a:ext cx="4031640" cy="30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9520"/>
                <a:tab algn="l" pos="2219400"/>
                <a:tab algn="l" pos="3328920"/>
                <a:tab algn="l" pos="4438800"/>
                <a:tab algn="l" pos="5548320"/>
                <a:tab algn="l" pos="6657840"/>
                <a:tab algn="l" pos="7767720"/>
                <a:tab algn="l" pos="8877240"/>
                <a:tab algn="l" pos="998712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92600" y="2610360"/>
            <a:ext cx="4031640" cy="64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9520"/>
                <a:tab algn="l" pos="2219400"/>
                <a:tab algn="l" pos="3328920"/>
                <a:tab algn="l" pos="4438800"/>
                <a:tab algn="l" pos="5548320"/>
                <a:tab algn="l" pos="6657840"/>
                <a:tab algn="l" pos="7767720"/>
                <a:tab algn="l" pos="8877240"/>
                <a:tab algn="l" pos="998712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9000" y="5990400"/>
            <a:ext cx="4031640" cy="30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9520"/>
                <a:tab algn="l" pos="2219400"/>
                <a:tab algn="l" pos="3328920"/>
                <a:tab algn="l" pos="4438800"/>
                <a:tab algn="l" pos="5548320"/>
                <a:tab algn="l" pos="6657840"/>
                <a:tab algn="l" pos="7767720"/>
                <a:tab algn="l" pos="8877240"/>
                <a:tab algn="l" pos="998712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0D160-DE4E-4C85-AB2C-3A1D398AF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9000" y="444960"/>
            <a:ext cx="8261640" cy="186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109520"/>
                <a:tab algn="l" pos="2219400"/>
                <a:tab algn="l" pos="3328920"/>
                <a:tab algn="l" pos="4438800"/>
                <a:tab algn="l" pos="5548320"/>
                <a:tab algn="l" pos="6657840"/>
                <a:tab algn="l" pos="7767720"/>
                <a:tab algn="l" pos="8877240"/>
                <a:tab algn="l" pos="99871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9000" y="2610360"/>
            <a:ext cx="4031640" cy="64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9520"/>
                <a:tab algn="l" pos="2219400"/>
                <a:tab algn="l" pos="3328920"/>
                <a:tab algn="l" pos="4438800"/>
                <a:tab algn="l" pos="5548320"/>
                <a:tab algn="l" pos="6657840"/>
                <a:tab algn="l" pos="7767720"/>
                <a:tab algn="l" pos="8877240"/>
                <a:tab algn="l" pos="998712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92600" y="2610360"/>
            <a:ext cx="4031640" cy="30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9520"/>
                <a:tab algn="l" pos="2219400"/>
                <a:tab algn="l" pos="3328920"/>
                <a:tab algn="l" pos="4438800"/>
                <a:tab algn="l" pos="5548320"/>
                <a:tab algn="l" pos="6657840"/>
                <a:tab algn="l" pos="7767720"/>
                <a:tab algn="l" pos="8877240"/>
                <a:tab algn="l" pos="998712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92600" y="5990400"/>
            <a:ext cx="4031640" cy="30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9520"/>
                <a:tab algn="l" pos="2219400"/>
                <a:tab algn="l" pos="3328920"/>
                <a:tab algn="l" pos="4438800"/>
                <a:tab algn="l" pos="5548320"/>
                <a:tab algn="l" pos="6657840"/>
                <a:tab algn="l" pos="7767720"/>
                <a:tab algn="l" pos="8877240"/>
                <a:tab algn="l" pos="998712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A7271-7F29-4AE3-AD66-82CC47553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9000" y="444960"/>
            <a:ext cx="8261640" cy="186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109520"/>
                <a:tab algn="l" pos="2219400"/>
                <a:tab algn="l" pos="3328920"/>
                <a:tab algn="l" pos="4438800"/>
                <a:tab algn="l" pos="5548320"/>
                <a:tab algn="l" pos="6657840"/>
                <a:tab algn="l" pos="7767720"/>
                <a:tab algn="l" pos="8877240"/>
                <a:tab algn="l" pos="99871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9000" y="2610360"/>
            <a:ext cx="4031640" cy="30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9520"/>
                <a:tab algn="l" pos="2219400"/>
                <a:tab algn="l" pos="3328920"/>
                <a:tab algn="l" pos="4438800"/>
                <a:tab algn="l" pos="5548320"/>
                <a:tab algn="l" pos="6657840"/>
                <a:tab algn="l" pos="7767720"/>
                <a:tab algn="l" pos="8877240"/>
                <a:tab algn="l" pos="998712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92600" y="2610360"/>
            <a:ext cx="4031640" cy="30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9520"/>
                <a:tab algn="l" pos="2219400"/>
                <a:tab algn="l" pos="3328920"/>
                <a:tab algn="l" pos="4438800"/>
                <a:tab algn="l" pos="5548320"/>
                <a:tab algn="l" pos="6657840"/>
                <a:tab algn="l" pos="7767720"/>
                <a:tab algn="l" pos="8877240"/>
                <a:tab algn="l" pos="998712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9000" y="5990400"/>
            <a:ext cx="8261640" cy="30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9520"/>
                <a:tab algn="l" pos="2219400"/>
                <a:tab algn="l" pos="3328920"/>
                <a:tab algn="l" pos="4438800"/>
                <a:tab algn="l" pos="5548320"/>
                <a:tab algn="l" pos="6657840"/>
                <a:tab algn="l" pos="7767720"/>
                <a:tab algn="l" pos="8877240"/>
                <a:tab algn="l" pos="998712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6DAB2-69DA-48EF-B2B4-066D6E93D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9040" y="10164600"/>
            <a:ext cx="1913040" cy="743040"/>
          </a:xfrm>
          <a:prstGeom prst="rect">
            <a:avLst/>
          </a:prstGeom>
          <a:noFill/>
          <a:ln w="0">
            <a:noFill/>
          </a:ln>
        </p:spPr>
        <p:txBody>
          <a:bodyPr lIns="110880" rIns="110880" tIns="55440" bIns="55440" anchor="t">
            <a:noAutofit/>
          </a:bodyPr>
          <a:lstStyle>
            <a:lvl1pPr indent="0">
              <a:buNone/>
              <a:tabLst>
                <a:tab algn="l" pos="0"/>
                <a:tab algn="l" pos="1109520"/>
                <a:tab algn="l" pos="2219400"/>
                <a:tab algn="l" pos="3328920"/>
                <a:tab algn="l" pos="4438800"/>
                <a:tab algn="l" pos="5548320"/>
                <a:tab algn="l" pos="6657840"/>
                <a:tab algn="l" pos="7767720"/>
                <a:tab algn="l" pos="8877240"/>
                <a:tab algn="l" pos="9987120"/>
              </a:tabLst>
              <a:defRPr b="0" lang="en-US" sz="1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109520"/>
                <a:tab algn="l" pos="2219400"/>
                <a:tab algn="l" pos="3328920"/>
                <a:tab algn="l" pos="4438800"/>
                <a:tab algn="l" pos="5548320"/>
                <a:tab algn="l" pos="6657840"/>
                <a:tab algn="l" pos="7767720"/>
                <a:tab algn="l" pos="8877240"/>
                <a:tab algn="l" pos="998712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37040" y="10164600"/>
            <a:ext cx="2906640" cy="743040"/>
          </a:xfrm>
          <a:prstGeom prst="rect">
            <a:avLst/>
          </a:prstGeom>
          <a:noFill/>
          <a:ln w="0">
            <a:noFill/>
          </a:ln>
        </p:spPr>
        <p:txBody>
          <a:bodyPr lIns="110880" rIns="110880" tIns="55440" bIns="55440" anchor="t">
            <a:noAutofit/>
          </a:bodyPr>
          <a:lstStyle>
            <a:lvl1pPr indent="0" algn="ctr">
              <a:buNone/>
              <a:tabLst>
                <a:tab algn="l" pos="0"/>
                <a:tab algn="l" pos="1109520"/>
                <a:tab algn="l" pos="2219400"/>
                <a:tab algn="l" pos="3328920"/>
                <a:tab algn="l" pos="4438800"/>
                <a:tab algn="l" pos="5548320"/>
                <a:tab algn="l" pos="6657840"/>
                <a:tab algn="l" pos="7767720"/>
                <a:tab algn="l" pos="8877240"/>
                <a:tab algn="l" pos="9987120"/>
              </a:tabLst>
              <a:defRPr b="0" lang="en-US" sz="1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109520"/>
                <a:tab algn="l" pos="2219400"/>
                <a:tab algn="l" pos="3328920"/>
                <a:tab algn="l" pos="4438800"/>
                <a:tab algn="l" pos="5548320"/>
                <a:tab algn="l" pos="6657840"/>
                <a:tab algn="l" pos="7767720"/>
                <a:tab algn="l" pos="8877240"/>
                <a:tab algn="l" pos="998712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78640" y="10164600"/>
            <a:ext cx="1913040" cy="743040"/>
          </a:xfrm>
          <a:prstGeom prst="rect">
            <a:avLst/>
          </a:prstGeom>
          <a:noFill/>
          <a:ln w="0">
            <a:noFill/>
          </a:ln>
        </p:spPr>
        <p:txBody>
          <a:bodyPr lIns="110880" rIns="110880" tIns="55440" bIns="55440" anchor="t">
            <a:noAutofit/>
          </a:bodyPr>
          <a:lstStyle>
            <a:lvl1pPr indent="0" algn="r">
              <a:buNone/>
              <a:tabLst>
                <a:tab algn="l" pos="0"/>
                <a:tab algn="l" pos="1109520"/>
                <a:tab algn="l" pos="2219400"/>
                <a:tab algn="l" pos="3328920"/>
                <a:tab algn="l" pos="4438800"/>
                <a:tab algn="l" pos="5548320"/>
                <a:tab algn="l" pos="6657840"/>
                <a:tab algn="l" pos="7767720"/>
                <a:tab algn="l" pos="8877240"/>
                <a:tab algn="l" pos="9987120"/>
              </a:tabLst>
              <a:defRPr b="0" lang="en-US" sz="1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109520"/>
                <a:tab algn="l" pos="2219400"/>
                <a:tab algn="l" pos="3328920"/>
                <a:tab algn="l" pos="4438800"/>
                <a:tab algn="l" pos="5548320"/>
                <a:tab algn="l" pos="6657840"/>
                <a:tab algn="l" pos="7767720"/>
                <a:tab algn="l" pos="8877240"/>
                <a:tab algn="l" pos="9987120"/>
              </a:tabLst>
            </a:pPr>
            <a:fld id="{057D1451-C091-4F31-B33D-FA2F9F566EF6}" type="slidenum"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0" y="0"/>
            <a:ext cx="9243360" cy="11156760"/>
            <a:chOff x="0" y="0"/>
            <a:chExt cx="9243360" cy="11156760"/>
          </a:xfrm>
        </p:grpSpPr>
        <p:sp>
          <p:nvSpPr>
            <p:cNvPr id="4" name=""/>
            <p:cNvSpPr/>
            <p:nvPr/>
          </p:nvSpPr>
          <p:spPr>
            <a:xfrm>
              <a:off x="3688200" y="428760"/>
              <a:ext cx="4194000" cy="44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0880" rIns="110880" tIns="55440" bIns="55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109520"/>
                  <a:tab algn="l" pos="2219400"/>
                  <a:tab algn="l" pos="3328920"/>
                  <a:tab algn="l" pos="4438800"/>
                  <a:tab algn="l" pos="5548320"/>
                  <a:tab algn="l" pos="6657840"/>
                  <a:tab algn="l" pos="7767720"/>
                  <a:tab algn="l" pos="8877240"/>
                  <a:tab algn="l" pos="998712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Exploração &amp; Produção - E&amp;P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" name="" descr=""/>
            <p:cNvPicPr/>
            <p:nvPr/>
          </p:nvPicPr>
          <p:blipFill>
            <a:blip r:embed="rId2"/>
            <a:stretch/>
          </p:blipFill>
          <p:spPr>
            <a:xfrm>
              <a:off x="8555040" y="366480"/>
              <a:ext cx="533160" cy="55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" name=""/>
            <p:cNvSpPr/>
            <p:nvPr/>
          </p:nvSpPr>
          <p:spPr>
            <a:xfrm>
              <a:off x="6120" y="0"/>
              <a:ext cx="3467520" cy="11156760"/>
            </a:xfrm>
            <a:prstGeom prst="rect">
              <a:avLst/>
            </a:prstGeom>
            <a:solidFill>
              <a:srgbClr val="0805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0880" rIns="110880" tIns="55440" bIns="55440" anchor="ctr">
              <a:noAutofit/>
            </a:bodyPr>
            <a:p>
              <a:pPr algn="ctr">
                <a:tabLst>
                  <a:tab algn="l" pos="0"/>
                  <a:tab algn="l" pos="1109520"/>
                  <a:tab algn="l" pos="2219400"/>
                  <a:tab algn="l" pos="3328920"/>
                  <a:tab algn="l" pos="4438800"/>
                  <a:tab algn="l" pos="5548320"/>
                  <a:tab algn="l" pos="6657840"/>
                  <a:tab algn="l" pos="7767720"/>
                  <a:tab algn="l" pos="8877240"/>
                  <a:tab algn="l" pos="998712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0" y="2247120"/>
              <a:ext cx="3454560" cy="3931200"/>
              <a:chOff x="0" y="2247120"/>
              <a:chExt cx="3454560" cy="3931200"/>
            </a:xfrm>
          </p:grpSpPr>
          <p:pic>
            <p:nvPicPr>
              <p:cNvPr id="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12240" y="3294000"/>
                <a:ext cx="3442320" cy="2798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1125720" y="2247120"/>
                <a:ext cx="2328840" cy="1198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5320440"/>
                <a:ext cx="1834560" cy="857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12240" y="2247120"/>
                <a:ext cx="1151640" cy="144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1733040" y="5320440"/>
                <a:ext cx="1721160" cy="8416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3" name=""/>
            <p:cNvSpPr/>
            <p:nvPr/>
          </p:nvSpPr>
          <p:spPr>
            <a:xfrm>
              <a:off x="12240" y="1201320"/>
              <a:ext cx="9180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63360" y="10995840"/>
              <a:ext cx="9180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" name=""/>
            <p:cNvGrpSpPr/>
            <p:nvPr/>
          </p:nvGrpSpPr>
          <p:grpSpPr>
            <a:xfrm>
              <a:off x="996480" y="343080"/>
              <a:ext cx="1484640" cy="720720"/>
              <a:chOff x="996480" y="343080"/>
              <a:chExt cx="1484640" cy="720720"/>
            </a:xfrm>
          </p:grpSpPr>
          <p:pic>
            <p:nvPicPr>
              <p:cNvPr id="16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521000" y="343080"/>
                <a:ext cx="433080" cy="364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" name=""/>
              <p:cNvSpPr/>
              <p:nvPr/>
            </p:nvSpPr>
            <p:spPr>
              <a:xfrm>
                <a:off x="996480" y="770040"/>
                <a:ext cx="1484640" cy="293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10880" rIns="110880" tIns="55440" bIns="5544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109520"/>
                    <a:tab algn="l" pos="2219400"/>
                    <a:tab algn="l" pos="3328920"/>
                    <a:tab algn="l" pos="4438800"/>
                    <a:tab algn="l" pos="5548320"/>
                    <a:tab algn="l" pos="6657840"/>
                    <a:tab algn="l" pos="7767720"/>
                    <a:tab algn="l" pos="8877240"/>
                    <a:tab algn="l" pos="9987120"/>
                  </a:tabLst>
                </a:pPr>
                <a:r>
                  <a:rPr b="0" i="1" lang="en-US" sz="1200" spc="-1" strike="noStrike">
                    <a:solidFill>
                      <a:srgbClr val="2f8b4e"/>
                    </a:solidFill>
                    <a:latin typeface="Arial Black"/>
                  </a:rPr>
                  <a:t>PETROBRAS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438360" y="1346040"/>
            <a:ext cx="5742000" cy="688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0a7c"/>
                </a:solidFill>
                <a:latin typeface="Arial"/>
              </a:rPr>
              <a:t>Estudo de Impacto Ambient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0a7c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f0a7c"/>
                </a:solidFill>
                <a:latin typeface="Arial"/>
              </a:rPr>
              <a:t>- EIA 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0a7c"/>
                </a:solidFill>
                <a:latin typeface="Arial"/>
              </a:rPr>
              <a:t>Campo de Albacora Les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0a7c"/>
                </a:solidFill>
                <a:latin typeface="Arial"/>
              </a:rPr>
              <a:t>- UN-RIO 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0a7c"/>
                </a:solidFill>
                <a:latin typeface="Arial"/>
              </a:rPr>
              <a:t>FPSO P-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0a7c"/>
                </a:solidFill>
                <a:latin typeface="Arial"/>
              </a:rPr>
              <a:t>Atividade de Produção e Escoamento de Petróle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0a7c"/>
                </a:solidFill>
                <a:latin typeface="Arial"/>
              </a:rPr>
              <a:t>e Gás Natu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02080" y="8713800"/>
            <a:ext cx="422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438360" y="9069480"/>
            <a:ext cx="574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Dezembro de 20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582000" y="10471320"/>
            <a:ext cx="15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f0a7c"/>
                </a:solidFill>
                <a:latin typeface="Arial"/>
              </a:rPr>
              <a:t>Volume II/I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65440" y="4822920"/>
            <a:ext cx="6858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765440" y="5403960"/>
            <a:ext cx="6858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6823080" y="10402920"/>
          <a:ext cx="2090880" cy="45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23080" y="10402920"/>
                    <a:ext cx="2090880" cy="45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8T14:09:42Z</dcterms:created>
  <dc:creator>E&amp;P</dc:creator>
  <dc:description/>
  <dc:language>en-US</dc:language>
  <cp:lastModifiedBy>HABTEC</cp:lastModifiedBy>
  <cp:lastPrinted>2002-01-10T10:07:55Z</cp:lastPrinted>
  <dcterms:modified xsi:type="dcterms:W3CDTF">2002-12-18T16:26:34Z</dcterms:modified>
  <cp:revision>54</cp:revision>
  <dc:subject/>
  <dc:title>Slide sem título </dc:title>
</cp:coreProperties>
</file>